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D171-2D24-4FA6-844B-D30B58C2F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00C1-D18A-4E8B-8883-340C1DC1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04A1-28B0-4330-8E1F-A960EAE1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9204-08A5-4F50-BC37-8912167E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B7DE-64D9-4248-B81F-6B093416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3F74-8625-4FE2-AF4D-BFAFDD0D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FCF5-79E5-4308-83EE-0FF60477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F471-AB83-4E38-B7E3-F7245ED6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CEFB-79EA-4802-81B5-3BD5D251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77EF-0E1A-44C6-9CA3-E1E52692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F9AD-3962-41E7-93FE-E7F86ADE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BFF1-8950-48DD-B4DB-7E192F44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96FB-6EDE-49EE-B90E-5A7A388B0F56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14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           Dr. Ralf Schol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genda R&amp;D-strategy-workshop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68360" y="836640"/>
          <a:ext cx="8207280" cy="3919680"/>
        </p:xfrm>
        <a:graphic>
          <a:graphicData uri="http://schemas.openxmlformats.org/drawingml/2006/table">
            <a:tbl>
              <a:tblPr/>
              <a:tblGrid>
                <a:gridCol w="1871640"/>
                <a:gridCol w="6335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8:00 – 11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Working session, topics defined on following sli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1:30 – 12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ime for daily 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2:30 – 13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un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3:30 – 17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Working session, topics defined on following sli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7:30 – 18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ime for daily 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8:30 – 20: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inn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0: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Usage tb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519120" y="4724280"/>
            <a:ext cx="80852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文鼎中黑"/>
              </a:rPr>
              <a:t>During morning and afternoon working session no internet access and phone usage will be allowed!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文鼎中黑"/>
              </a:rPr>
              <a:t>The workshop will start on Sunday afternoon with a session to get the personal expectations and a get-together to build personal relationship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20072400">
            <a:off x="7873560" y="4987440"/>
            <a:ext cx="9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D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Monday morn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esentation of each organization by the participant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opics to address in the presentation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people incl. education and skill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working model and process including measur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products and running projects in the respective organizat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result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 rot="20072400">
            <a:off x="7873560" y="4987440"/>
            <a:ext cx="9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D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Monday afterno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What has to be done to become one developmen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Vision, Miss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Goals to reach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Value of one R&amp;D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ollaboration of the different organizations insid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expectations on the others as well as on your own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overcome prejudic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reduce anxiety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/>
          <p:cNvSpPr/>
          <p:nvPr/>
        </p:nvSpPr>
        <p:spPr>
          <a:xfrm rot="20072400">
            <a:off x="7873560" y="4987440"/>
            <a:ext cx="9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D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Tuesday morn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How to …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690840" indent="-26568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achieve the defined targets and goal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0840" indent="-26568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improve collaborat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0840" indent="-26568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adjust to new technologies and business need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0840" indent="-26568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enjoy competit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0840" indent="-26568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ommunicate in the troop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0840" indent="-26568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ommunicate in the organizat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"/>
          <p:cNvSpPr/>
          <p:nvPr/>
        </p:nvSpPr>
        <p:spPr>
          <a:xfrm>
            <a:off x="369720" y="461484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Tuesday aftern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9720" y="5311800"/>
            <a:ext cx="8305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Definition of action p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072400">
            <a:off x="7873560" y="4987440"/>
            <a:ext cx="9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D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ScholzR</cp:lastModifiedBy>
  <dcterms:modified xsi:type="dcterms:W3CDTF">2006-05-14T11:49:34Z</dcterms:modified>
  <cp:revision>60</cp:revision>
  <dc:subject/>
  <dc:title>PowerPoint 簡報</dc:title>
</cp:coreProperties>
</file>